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28.png" ContentType="image/png"/>
  <Override PartName="/ppt/media/image13.wmf" ContentType="image/x-wmf"/>
  <Override PartName="/ppt/media/image14.png" ContentType="image/png"/>
  <Override PartName="/ppt/media/image39.wmf" ContentType="image/x-wmf"/>
  <Override PartName="/ppt/media/image9.wmf" ContentType="image/x-wmf"/>
  <Override PartName="/ppt/media/image38.wmf" ContentType="image/x-wmf"/>
  <Override PartName="/ppt/media/image40.png" ContentType="image/png"/>
  <Override PartName="/ppt/media/image30.wmf" ContentType="image/x-wmf"/>
  <Override PartName="/ppt/media/image42.wmf" ContentType="image/x-wmf"/>
  <Override PartName="/ppt/media/image43.png" ContentType="image/png"/>
  <Override PartName="/ppt/media/image32.wmf" ContentType="image/x-wmf"/>
  <Override PartName="/ppt/media/image44.wmf" ContentType="image/x-wmf"/>
  <Override PartName="/ppt/media/image4.png" ContentType="image/png"/>
  <Override PartName="/ppt/media/image34.png" ContentType="image/png"/>
  <Override PartName="/ppt/media/image41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928-C0B7-415A-A61A-A90BAE40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94D-C290-49D6-AC55-90C0374D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7EC-3143-4BFF-941D-D9A89A27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8FA-C3F5-485B-A5CA-7DC5C163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A4F0-1A9D-41FB-A63D-1A5EB04C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77DD-ECA8-44AA-B95B-06DC3AEC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9D5F-B3D1-42D9-90C9-2AC2D459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9A13-DF10-43AB-A0E8-5B5AC2A0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531B-B78E-4CAD-8185-04016F5C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9009-6CFC-45D9-9AD9-2F72AC40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70CD-0DEE-4E9F-962B-670C6078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86D-C346-4E83-904C-1296D514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41A5-9AEE-4D56-B092-39C09FA4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06F6-5E03-46FD-B50B-244DD061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B983-A179-4559-8E26-CACA6DF4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C922-0076-499E-AFE2-D1F9B143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250A-613B-464A-8829-A3F4DB17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30EE-8C76-4687-8085-41BC50E0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4F54-408A-4213-B311-AFA70A64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EB7A-8B2B-4F56-9CE8-C9E669B6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1A5F5-08ED-447A-B4D2-6F06CC2B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FC2CB-33A4-40FF-A843-46E7773F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7B6-3210-4F09-BB97-928BC794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0B18E-9693-4EFD-BABD-43376779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D67D-6F67-4E90-9994-8ADD6CA0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5EA1-4A40-4082-865B-2C1258AB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4C071-EDA8-41B2-B7B2-9A91D3E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2DBBC-8558-4CF5-9541-6CC6CFC3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70A15-4183-4DE4-B982-E77D81C1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0EBBB-EC1F-4207-A07D-31F35CD7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255-705D-49C6-825F-D7EBE26A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879-E92E-4439-9781-3A501C2B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7CD-20F5-4841-BC88-3AA606C1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9B8-6C8D-47DC-9604-53839DB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818-4C8B-454A-8C9A-C83D720C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4D8-BCB7-42AA-A6C2-EA968F6A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BA85-7742-4E35-A17B-9DC6637098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A55D-77F8-47C2-BF2A-F45E01CA5D1E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5C96-0DAB-484A-BF6D-E486F2D7F714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2.wmf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package" Target="../embeddings/oleObject2.doc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23240" y="4266360"/>
            <a:ext cx="46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　解直角三角形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304920" y="838080"/>
          <a:ext cx="8342280" cy="6289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838080"/>
                    <a:ext cx="834228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Picture 335" descr=""/>
          <p:cNvPicPr/>
          <p:nvPr/>
        </p:nvPicPr>
        <p:blipFill>
          <a:blip r:embed="rId4"/>
          <a:stretch/>
        </p:blipFill>
        <p:spPr>
          <a:xfrm>
            <a:off x="457200" y="4419720"/>
            <a:ext cx="2438280" cy="21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2895480" y="4114800"/>
          <a:ext cx="5842080" cy="2743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4114800"/>
                    <a:ext cx="5842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457200" y="990720"/>
          <a:ext cx="8331120" cy="3535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3112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Picture 336" descr=""/>
          <p:cNvPicPr/>
          <p:nvPr/>
        </p:nvPicPr>
        <p:blipFill>
          <a:blip r:embed="rId4"/>
          <a:stretch/>
        </p:blipFill>
        <p:spPr>
          <a:xfrm>
            <a:off x="6629400" y="2971800"/>
            <a:ext cx="2209680" cy="142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304920" y="3429000"/>
          <a:ext cx="6157800" cy="2743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429000"/>
                    <a:ext cx="6157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995400"/>
          <a:ext cx="8259840" cy="372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5400"/>
                    <a:ext cx="8259840" cy="37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Picture 337" descr=""/>
          <p:cNvPicPr/>
          <p:nvPr/>
        </p:nvPicPr>
        <p:blipFill>
          <a:blip r:embed="rId4"/>
          <a:stretch/>
        </p:blipFill>
        <p:spPr>
          <a:xfrm>
            <a:off x="5943600" y="2362320"/>
            <a:ext cx="2971800" cy="159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457200" y="3505320"/>
          <a:ext cx="6664320" cy="3139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505320"/>
                    <a:ext cx="666432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" y="838080"/>
          <a:ext cx="8128080" cy="294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838080"/>
                    <a:ext cx="812808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7" name="Picture 338" descr=""/>
          <p:cNvPicPr/>
          <p:nvPr/>
        </p:nvPicPr>
        <p:blipFill>
          <a:blip r:embed="rId4"/>
          <a:stretch/>
        </p:blipFill>
        <p:spPr>
          <a:xfrm>
            <a:off x="2819520" y="2362320"/>
            <a:ext cx="2286000" cy="113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376200" y="4073400"/>
          <a:ext cx="7620120" cy="2357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6200" y="4073400"/>
                    <a:ext cx="762012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85920" y="914400"/>
          <a:ext cx="8494560" cy="7070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920" y="914400"/>
                    <a:ext cx="849456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339" descr=""/>
          <p:cNvPicPr/>
          <p:nvPr/>
        </p:nvPicPr>
        <p:blipFill>
          <a:blip r:embed="rId4"/>
          <a:stretch/>
        </p:blipFill>
        <p:spPr>
          <a:xfrm>
            <a:off x="1905120" y="4952880"/>
            <a:ext cx="205740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990720" y="1295280"/>
          <a:ext cx="6594480" cy="466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659448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914400"/>
          <a:ext cx="8453520" cy="4906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45352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Picture 340" descr=""/>
          <p:cNvPicPr/>
          <p:nvPr/>
        </p:nvPicPr>
        <p:blipFill>
          <a:blip r:embed="rId4"/>
          <a:stretch/>
        </p:blipFill>
        <p:spPr>
          <a:xfrm>
            <a:off x="1676520" y="4267080"/>
            <a:ext cx="289548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1757520"/>
          <a:ext cx="8137440" cy="5040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7520"/>
                    <a:ext cx="8137440" cy="50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04920" y="914400"/>
          <a:ext cx="8351640" cy="653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14400"/>
                    <a:ext cx="835164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Picture 341" descr=""/>
          <p:cNvPicPr/>
          <p:nvPr/>
        </p:nvPicPr>
        <p:blipFill>
          <a:blip r:embed="rId4"/>
          <a:stretch/>
        </p:blipFill>
        <p:spPr>
          <a:xfrm>
            <a:off x="1523880" y="4572000"/>
            <a:ext cx="304812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538200" y="995400"/>
          <a:ext cx="7630920" cy="73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8200" y="995400"/>
                    <a:ext cx="7630920" cy="73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920" y="1066680"/>
          <a:ext cx="8199360" cy="4267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66680"/>
                    <a:ext cx="81993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319" descr=""/>
          <p:cNvPicPr/>
          <p:nvPr/>
        </p:nvPicPr>
        <p:blipFill>
          <a:blip r:embed="rId4"/>
          <a:stretch/>
        </p:blipFill>
        <p:spPr>
          <a:xfrm>
            <a:off x="2057400" y="4876920"/>
            <a:ext cx="2514600" cy="1501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43520" y="989640"/>
            <a:ext cx="4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2400" y="1370520"/>
            <a:ext cx="4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下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46240" y="3123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水平宽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365652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坡比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19240" y="373284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夹角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3886200"/>
          <a:ext cx="1108080" cy="782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886200"/>
                    <a:ext cx="11080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95280" y="914400"/>
          <a:ext cx="8748720" cy="785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14400"/>
                    <a:ext cx="8748720" cy="78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Picture 322" descr=""/>
          <p:cNvPicPr/>
          <p:nvPr/>
        </p:nvPicPr>
        <p:blipFill>
          <a:blip r:embed="rId4"/>
          <a:stretch/>
        </p:blipFill>
        <p:spPr>
          <a:xfrm>
            <a:off x="2971800" y="2895480"/>
            <a:ext cx="1828800" cy="158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3" descr=""/>
          <p:cNvPicPr/>
          <p:nvPr/>
        </p:nvPicPr>
        <p:blipFill>
          <a:blip r:embed="rId5"/>
          <a:stretch/>
        </p:blipFill>
        <p:spPr>
          <a:xfrm>
            <a:off x="7467480" y="2895480"/>
            <a:ext cx="1384560" cy="1752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6019920"/>
          <a:ext cx="1382760" cy="385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6019920"/>
                    <a:ext cx="13827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80880" y="762120"/>
          <a:ext cx="8344080" cy="304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762120"/>
                    <a:ext cx="834408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324" descr=""/>
          <p:cNvPicPr/>
          <p:nvPr/>
        </p:nvPicPr>
        <p:blipFill>
          <a:blip r:embed="rId4"/>
          <a:stretch/>
        </p:blipFill>
        <p:spPr>
          <a:xfrm>
            <a:off x="7391520" y="2362320"/>
            <a:ext cx="141444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304920" y="2743200"/>
          <a:ext cx="6929280" cy="2743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743200"/>
                    <a:ext cx="69292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52280" y="1066680"/>
          <a:ext cx="8585280" cy="455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066680"/>
                    <a:ext cx="85852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326" descr=""/>
          <p:cNvPicPr/>
          <p:nvPr/>
        </p:nvPicPr>
        <p:blipFill>
          <a:blip r:embed="rId4"/>
          <a:stretch/>
        </p:blipFill>
        <p:spPr>
          <a:xfrm>
            <a:off x="4114800" y="3429000"/>
            <a:ext cx="2590920" cy="1349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1160" y="213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04920" y="1036800"/>
          <a:ext cx="8300880" cy="582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36800"/>
                    <a:ext cx="8300880" cy="58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328" descr=""/>
          <p:cNvPicPr/>
          <p:nvPr/>
        </p:nvPicPr>
        <p:blipFill>
          <a:blip r:embed="rId4"/>
          <a:stretch/>
        </p:blipFill>
        <p:spPr>
          <a:xfrm>
            <a:off x="1676520" y="5427720"/>
            <a:ext cx="1600200" cy="1187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97680" y="198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65440" y="487584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5°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28600" y="990720"/>
          <a:ext cx="8229600" cy="5629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90720"/>
                    <a:ext cx="822960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Picture 330" descr=""/>
          <p:cNvPicPr/>
          <p:nvPr/>
        </p:nvPicPr>
        <p:blipFill>
          <a:blip r:embed="rId4"/>
          <a:stretch/>
        </p:blipFill>
        <p:spPr>
          <a:xfrm>
            <a:off x="3352680" y="2362320"/>
            <a:ext cx="2133720" cy="1220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954680" y="1446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5840" y="426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57200" y="1147680"/>
          <a:ext cx="8474040" cy="571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147680"/>
                    <a:ext cx="8474040" cy="57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333" descr=""/>
          <p:cNvPicPr/>
          <p:nvPr/>
        </p:nvPicPr>
        <p:blipFill>
          <a:blip r:embed="rId4"/>
          <a:stretch/>
        </p:blipFill>
        <p:spPr>
          <a:xfrm>
            <a:off x="3962520" y="4343400"/>
            <a:ext cx="1882800" cy="1905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31" descr=""/>
          <p:cNvPicPr/>
          <p:nvPr/>
        </p:nvPicPr>
        <p:blipFill>
          <a:blip r:embed="rId5"/>
          <a:stretch/>
        </p:blipFill>
        <p:spPr>
          <a:xfrm>
            <a:off x="3048120" y="2133720"/>
            <a:ext cx="3504960" cy="1276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35000" y="1522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4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9000" y="3885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04920" y="1066680"/>
          <a:ext cx="831060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66680"/>
                    <a:ext cx="83106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334" descr=""/>
          <p:cNvPicPr/>
          <p:nvPr/>
        </p:nvPicPr>
        <p:blipFill>
          <a:blip r:embed="rId4"/>
          <a:stretch/>
        </p:blipFill>
        <p:spPr>
          <a:xfrm>
            <a:off x="3581280" y="3505320"/>
            <a:ext cx="3657600" cy="1606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35200" y="2208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07:57:25Z</dcterms:created>
  <dc:creator>7C教育资源网www.7cxk.net</dc:creator>
  <dc:description>7C教育资源网www.7cxk.net</dc:description>
  <cp:keywords>7C教育资源网www.7cxk.net</cp:keywords>
  <dc:language>en-US</dc:language>
  <cp:lastModifiedBy>Microsoft</cp:lastModifiedBy>
  <dcterms:modified xsi:type="dcterms:W3CDTF">2015-10-12T09:50:41Z</dcterms:modified>
  <cp:revision>75</cp:revision>
  <dc:subject>7C教育资源网www.7cxk.net</dc:subject>
  <dc:title>7C教育资源网www.7cxk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